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965-E0A4-4394-AA98-F100348E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C44-D4E3-4115-80CA-3FAB5AB8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3C1-F503-4C64-83ED-65099265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465-B7F1-453A-B110-C6E7A62E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029E-50BA-4017-BADC-791183E6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54F9-9613-4617-8791-95E2145C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BE7D-B1D5-4D42-AE08-F223C952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7AA2-A5AB-44A7-BAB4-540B5DA7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5FC9-C062-4A1E-BBA2-43AD717A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ED85-E766-43F3-9C98-97C481C0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3E9C-ABE8-45C7-A373-90BF790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044E-80A6-4C56-92E5-D89FFF6D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3569-492A-46CD-991B-9CD8BF90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C4CF-40E9-4910-B7D1-184F24FE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1731-1DC2-44D8-B5E7-68BB923A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1524-1C25-43EF-87BC-214D5D48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84E0-D6D8-4222-815B-18664B29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1EB-F9DB-48A8-970D-2F300519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576-E7B8-4423-83E4-7DC35D12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24C-F224-4D02-A1CE-C51A5025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73A-D484-46BB-9CD9-44224D19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1F00-133A-472B-BDE6-200D7CF5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DD8-16CC-474B-BE5A-89389BC9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128E-6887-4FAC-828C-F663AC1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8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dd89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01AC-6044-4019-B0FB-2F9D298256FD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125360"/>
            <a:ext cx="8077320" cy="0"/>
          </a:xfrm>
          <a:prstGeom prst="line">
            <a:avLst/>
          </a:prstGeom>
          <a:ln w="19080">
            <a:solidFill>
              <a:srgbClr val="ffd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d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d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d8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3089-3CD0-4373-AE7E-1A632E1E863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700" spc="-1" strike="noStrike">
                <a:solidFill>
                  <a:srgbClr val="ffdd89"/>
                </a:solidFill>
                <a:latin typeface="Impact"/>
              </a:rPr>
              <a:t>El Nacimiento de Occidente </a:t>
            </a:r>
            <a:endParaRPr b="0" lang="en-US" sz="4700" spc="-1" strike="noStrike">
              <a:solidFill>
                <a:srgbClr val="ffdd89"/>
              </a:solidFill>
              <a:latin typeface="Impact"/>
            </a:endParaRPr>
          </a:p>
        </p:txBody>
      </p:sp>
      <p:pic>
        <p:nvPicPr>
          <p:cNvPr id="91" name="Picture 7" descr="edad-media-scriptorium"/>
          <p:cNvPicPr/>
          <p:nvPr/>
        </p:nvPicPr>
        <p:blipFill>
          <a:blip r:embed="rId1"/>
          <a:stretch/>
        </p:blipFill>
        <p:spPr>
          <a:xfrm>
            <a:off x="2411280" y="3500280"/>
            <a:ext cx="4286520" cy="2571840"/>
          </a:xfrm>
          <a:prstGeom prst="rect">
            <a:avLst/>
          </a:prstGeom>
          <a:ln w="76320">
            <a:solidFill>
              <a:srgbClr val="ffdd89"/>
            </a:solidFill>
            <a:miter/>
          </a:ln>
        </p:spPr>
      </p:pic>
      <p:sp>
        <p:nvSpPr>
          <p:cNvPr id="92" name="3 Rectángulo"/>
          <p:cNvSpPr/>
          <p:nvPr/>
        </p:nvSpPr>
        <p:spPr>
          <a:xfrm>
            <a:off x="3370680" y="6286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Verdana"/>
              </a:rPr>
              <a:t>Beatriz Bustama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2A4E-90A6-47AA-AB20-AA0893253785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Universidad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as escuelas catedralicias (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tedrales de la sabiduría”) 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 dieron origen a la más importante institución cultural de la Edad Me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Universitas = comunidad organizada con cualquier f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image"/>
          <p:cNvPicPr/>
          <p:nvPr/>
        </p:nvPicPr>
        <p:blipFill>
          <a:blip r:embed="rId1"/>
          <a:stretch/>
        </p:blipFill>
        <p:spPr>
          <a:xfrm>
            <a:off x="3203640" y="3284640"/>
            <a:ext cx="3527280" cy="279396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138" name="Rectangle 5"/>
          <p:cNvSpPr/>
          <p:nvPr/>
        </p:nvSpPr>
        <p:spPr>
          <a:xfrm>
            <a:off x="684360" y="3429000"/>
            <a:ext cx="1871640" cy="2448000"/>
          </a:xfrm>
          <a:prstGeom prst="rect">
            <a:avLst/>
          </a:prstGeom>
          <a:gradFill rotWithShape="0">
            <a:gsLst>
              <a:gs pos="0">
                <a:srgbClr val="fff4d7"/>
              </a:gs>
              <a:gs pos="100000">
                <a:srgbClr val="ffdd8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334c00"/>
                </a:solidFill>
                <a:latin typeface="Arial Narrow"/>
              </a:rPr>
              <a:t>Profesores</a:t>
            </a:r>
            <a:r>
              <a:rPr b="0" lang="es-PE" sz="1800" spc="-1" strike="noStrike">
                <a:solidFill>
                  <a:srgbClr val="334c00"/>
                </a:solidFill>
                <a:latin typeface="Arial Narrow"/>
              </a:rPr>
              <a:t> unidos para defender sus intereses y la disciplina de los estudios, de quien quisiera ejercer sobre ellos un dominio excesiv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380360" y="4149720"/>
            <a:ext cx="1295280" cy="1008000"/>
          </a:xfrm>
          <a:prstGeom prst="rect">
            <a:avLst/>
          </a:prstGeom>
          <a:gradFill rotWithShape="0">
            <a:gsLst>
              <a:gs pos="0">
                <a:srgbClr val="fff4d7"/>
              </a:gs>
              <a:gs pos="100000">
                <a:srgbClr val="ffdd8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334c00"/>
                </a:solidFill>
                <a:latin typeface="Arial Narrow"/>
              </a:rPr>
              <a:t>Estudiantes</a:t>
            </a:r>
            <a:r>
              <a:rPr b="0" lang="es-PE" sz="1800" spc="-1" strike="noStrike">
                <a:solidFill>
                  <a:srgbClr val="334c00"/>
                </a:solidFill>
                <a:latin typeface="Arial Narrow"/>
              </a:rPr>
              <a:t> unidos para proteger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EDA7-7303-4E50-8FD7-468FC878B3E1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Universidad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Gradualmente el término se aplicó a las universidades de profesores y estudiantes, pasando de la escuela catedralicia a la Universidad como institución autóno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as más antiguas: Universidad de Paris, Universidad de Bolonia, Universidad de Oxford, Universidad de Cambrid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as primeras facultades: Derecho, Medicina, Teolog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Universidad%20de%20Bolonia"/>
          <p:cNvPicPr/>
          <p:nvPr/>
        </p:nvPicPr>
        <p:blipFill>
          <a:blip r:embed="rId1"/>
          <a:stretch/>
        </p:blipFill>
        <p:spPr>
          <a:xfrm>
            <a:off x="2989440" y="45086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OxfordCrest"/>
          <p:cNvPicPr/>
          <p:nvPr/>
        </p:nvPicPr>
        <p:blipFill>
          <a:blip r:embed="rId2"/>
          <a:stretch/>
        </p:blipFill>
        <p:spPr>
          <a:xfrm>
            <a:off x="5076720" y="4508640"/>
            <a:ext cx="1505160" cy="1801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Cambrdge1"/>
          <p:cNvPicPr/>
          <p:nvPr/>
        </p:nvPicPr>
        <p:blipFill>
          <a:blip r:embed="rId3"/>
          <a:srcRect l="-4875" t="-3901" r="-3364" b="0"/>
          <a:stretch/>
        </p:blipFill>
        <p:spPr>
          <a:xfrm>
            <a:off x="6877080" y="4508640"/>
            <a:ext cx="1500120" cy="1798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"/>
          <p:cNvPicPr/>
          <p:nvPr/>
        </p:nvPicPr>
        <p:blipFill>
          <a:blip r:embed="rId4"/>
          <a:stretch/>
        </p:blipFill>
        <p:spPr>
          <a:xfrm>
            <a:off x="1117440" y="4508640"/>
            <a:ext cx="15876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18EB-7160-443E-88F8-FA94209AD704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Universidad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os privilegios, las exenciones y las inmunidades cuya conquista fuera la razón de vivir de las universidades, porque sin ellos no hubieran podido ejercer su independencia de crítica e investigación, contribuyeron a consolidar su prestig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ACC_1967_198_199_3"/>
          <p:cNvPicPr/>
          <p:nvPr/>
        </p:nvPicPr>
        <p:blipFill>
          <a:blip r:embed="rId1"/>
          <a:srcRect l="2257" t="0" r="0" b="0"/>
          <a:stretch/>
        </p:blipFill>
        <p:spPr>
          <a:xfrm>
            <a:off x="5508720" y="981000"/>
            <a:ext cx="3165480" cy="54388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0D39-1D0F-47FE-9907-98D5E60D62CB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Segunda Escolásti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ara la escolástica la verdad está revelada, no se propone encontrar la verdad pues ya ha sido revel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Su fin es lograr que el hombre entienda la verdad (conciliar fe y razón = sumisión de la razón a la f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bibliasanmillan"/>
          <p:cNvPicPr/>
          <p:nvPr/>
        </p:nvPicPr>
        <p:blipFill>
          <a:blip r:embed="rId1"/>
          <a:srcRect l="0" t="5298" r="0" b="4636"/>
          <a:stretch/>
        </p:blipFill>
        <p:spPr>
          <a:xfrm>
            <a:off x="5796000" y="2997360"/>
            <a:ext cx="2857320" cy="3671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290px-BibliaPauperum"/>
          <p:cNvPicPr/>
          <p:nvPr/>
        </p:nvPicPr>
        <p:blipFill>
          <a:blip r:embed="rId2"/>
          <a:stretch/>
        </p:blipFill>
        <p:spPr>
          <a:xfrm>
            <a:off x="5796000" y="2924280"/>
            <a:ext cx="27622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31A6-630C-46AB-A1FE-E61DFAF6C9D4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Segunda Escolásti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Carece del sentido de historicidad, colocando en un mismo plano a los filósofos más distantes sirviéndose de sus doctrinas para sus propios fi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os intentos de astrólogos, alquimistas y magos por ponerse en contacto con la naturaleza, se conden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tasa_mago"/>
          <p:cNvPicPr/>
          <p:nvPr/>
        </p:nvPicPr>
        <p:blipFill>
          <a:blip r:embed="rId1"/>
          <a:stretch/>
        </p:blipFill>
        <p:spPr>
          <a:xfrm>
            <a:off x="3059280" y="3645000"/>
            <a:ext cx="3695400" cy="277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stronomer"/>
          <p:cNvPicPr/>
          <p:nvPr/>
        </p:nvPicPr>
        <p:blipFill>
          <a:blip r:embed="rId2"/>
          <a:srcRect l="2395" t="2082" r="0" b="0"/>
          <a:stretch/>
        </p:blipFill>
        <p:spPr>
          <a:xfrm>
            <a:off x="3564000" y="3573360"/>
            <a:ext cx="2722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B463-097F-4585-A3FC-56510A0FD5C6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Segunda Escolásti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Durante la segunda escolástica o alta escolástica, mediados del siglo IX a fines del siglo XII, fe y razón se consideran en perfecta armon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scolástica incentivó la especulación y el razonamiento, pues suponía someterse a un rígido armazón lógico y una estructura esquemática del discurso que debía exponerse a refutaciones y preparar defens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3853-D095-4221-A93B-16FDFACB596F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Segunda Escolásti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siglo XII tiene lugar la recepción de textos de Aristóteles antes desconocidos en Occidente, así como la i</a:t>
            </a: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ncorporación de nuevos elementos provenientes de las filosofías árabe y judí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Tomás de Aquino, Buenaventura, Duns Esco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5" descr="San+Buenaventura"/>
          <p:cNvPicPr/>
          <p:nvPr/>
        </p:nvPicPr>
        <p:blipFill>
          <a:blip r:embed="rId1"/>
          <a:stretch/>
        </p:blipFill>
        <p:spPr>
          <a:xfrm>
            <a:off x="3924360" y="3500280"/>
            <a:ext cx="1628640" cy="2381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tomas_de_aquino1"/>
          <p:cNvPicPr/>
          <p:nvPr/>
        </p:nvPicPr>
        <p:blipFill>
          <a:blip r:embed="rId2"/>
          <a:stretch/>
        </p:blipFill>
        <p:spPr>
          <a:xfrm>
            <a:off x="826920" y="357336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dunsscoto"/>
          <p:cNvPicPr/>
          <p:nvPr/>
        </p:nvPicPr>
        <p:blipFill>
          <a:blip r:embed="rId3"/>
          <a:srcRect l="4144" t="2886" r="3948" b="3330"/>
          <a:stretch/>
        </p:blipFill>
        <p:spPr>
          <a:xfrm>
            <a:off x="6372360" y="3573360"/>
            <a:ext cx="1584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2DAF-4E1C-4C1B-93AE-7DFAB38D5488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Edad Medi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íodo histórico de la civilización occidental comprendido entre los siglos V y  XV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539640" y="2781360"/>
            <a:ext cx="3600720" cy="720720"/>
          </a:xfrm>
          <a:prstGeom prst="flowChartPunchedCard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76, caída del Imperio Romano de Occiden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5148360" y="2708280"/>
            <a:ext cx="3673440" cy="720720"/>
          </a:xfrm>
          <a:prstGeom prst="flowChartPunchedCard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492, descubrimiento de Amér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5148360" y="2708280"/>
            <a:ext cx="3671640" cy="720720"/>
          </a:xfrm>
          <a:prstGeom prst="flowChartPunchedCard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453, caída del Imperio Bizantino, invención de la imprent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Picture 11" descr="invasion-full"/>
          <p:cNvPicPr/>
          <p:nvPr/>
        </p:nvPicPr>
        <p:blipFill>
          <a:blip r:embed="rId1"/>
          <a:stretch/>
        </p:blipFill>
        <p:spPr>
          <a:xfrm>
            <a:off x="611280" y="3835440"/>
            <a:ext cx="3529080" cy="27874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00" name="Picture 13" descr="r_colon_toma_posesion"/>
          <p:cNvPicPr/>
          <p:nvPr/>
        </p:nvPicPr>
        <p:blipFill>
          <a:blip r:embed="rId2"/>
          <a:stretch/>
        </p:blipFill>
        <p:spPr>
          <a:xfrm>
            <a:off x="5148360" y="3860640"/>
            <a:ext cx="3673440" cy="27766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01" name="Picture 15" descr="20070712klphishes_3"/>
          <p:cNvPicPr/>
          <p:nvPr/>
        </p:nvPicPr>
        <p:blipFill>
          <a:blip r:embed="rId3"/>
          <a:stretch/>
        </p:blipFill>
        <p:spPr>
          <a:xfrm>
            <a:off x="5580000" y="3860640"/>
            <a:ext cx="2735280" cy="271476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9A02-1E92-4C5D-AC84-0EF4BC02D228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spersión del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piramide medieval"/>
          <p:cNvPicPr/>
          <p:nvPr/>
        </p:nvPicPr>
        <p:blipFill>
          <a:blip r:embed="rId1"/>
          <a:stretch/>
        </p:blipFill>
        <p:spPr>
          <a:xfrm>
            <a:off x="1619280" y="2265480"/>
            <a:ext cx="6438960" cy="45482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67B4-9595-4A3E-ADF7-2F5A7013F4C0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Economía basada en el trueque (producción feud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Condiciones de vida difíciles reducen la cultura casi a c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bsorción y sustitución de la cultura clásica por las teocéntr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Población casi analfabe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pobre_1"/>
          <p:cNvPicPr/>
          <p:nvPr/>
        </p:nvPicPr>
        <p:blipFill>
          <a:blip r:embed="rId1"/>
          <a:stretch/>
        </p:blipFill>
        <p:spPr>
          <a:xfrm>
            <a:off x="5580000" y="2781360"/>
            <a:ext cx="3052800" cy="33782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2F9B-1EA9-45EA-9738-7D86F040B0B1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centro de las preocupaciones humanas fue Dios y hacia él debían dirigirse todas sus acciones para lograr una vida virtuo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hombre lleva en su esencia el pecado original, tiene derecho a una vida plena sólo en el más allá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ultura de la época estaba en manos del clero, responsable de la reconstrucción cultu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7" descr="nepotismo-3838"/>
          <p:cNvPicPr/>
          <p:nvPr/>
        </p:nvPicPr>
        <p:blipFill>
          <a:blip r:embed="rId1"/>
          <a:srcRect l="0" t="27020" r="0" b="7171"/>
          <a:stretch/>
        </p:blipFill>
        <p:spPr>
          <a:xfrm>
            <a:off x="5651640" y="3068640"/>
            <a:ext cx="3166920" cy="32050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1C99-903D-493C-B617-CE0A97EDE11A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búsqueda de la verdad científica no era necesaria ante la existencia de la única verdad posible: la revelada por el Crea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derecho a la libre expresión de las ideas fue coartado al punto tal, que muchos que se atrevieron a ejercerlo terminaron condenados por los Tribunales de la Inquisi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gal_5291"/>
          <p:cNvPicPr/>
          <p:nvPr/>
        </p:nvPicPr>
        <p:blipFill>
          <a:blip r:embed="rId1"/>
          <a:stretch/>
        </p:blipFill>
        <p:spPr>
          <a:xfrm>
            <a:off x="2843280" y="3500280"/>
            <a:ext cx="4010040" cy="30178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18" name="Picture 7" descr="161701"/>
          <p:cNvPicPr/>
          <p:nvPr/>
        </p:nvPicPr>
        <p:blipFill>
          <a:blip r:embed="rId2"/>
          <a:srcRect l="10810" t="5785" r="9287" b="4775"/>
          <a:stretch/>
        </p:blipFill>
        <p:spPr>
          <a:xfrm>
            <a:off x="3059280" y="3500280"/>
            <a:ext cx="3600360" cy="30164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19" name="Picture 9" descr="suplicederoue1"/>
          <p:cNvPicPr/>
          <p:nvPr/>
        </p:nvPicPr>
        <p:blipFill>
          <a:blip r:embed="rId3"/>
          <a:srcRect l="0" t="6624" r="0" b="7328"/>
          <a:stretch/>
        </p:blipFill>
        <p:spPr>
          <a:xfrm>
            <a:off x="3276720" y="3500280"/>
            <a:ext cx="2949480" cy="30974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4807-07A5-4C77-977A-D247469FAA47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Un mundo cristiano, y un pensamiento cristiano, pusieron al hombre y sus ideas, de rodillas ante Di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el siglo XI se organizaron las Cruzadas, contra los turcos que impedían los peregrinajes hacia Tierra Santa, y así en nombre de la fe, se gestaron luchas encarnizadas contra los infieles, con el fin de unificar la cristianda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edad_media"/>
          <p:cNvPicPr/>
          <p:nvPr/>
        </p:nvPicPr>
        <p:blipFill>
          <a:blip r:embed="rId1"/>
          <a:srcRect l="1732" t="4551" r="2705" b="2349"/>
          <a:stretch/>
        </p:blipFill>
        <p:spPr>
          <a:xfrm>
            <a:off x="2700360" y="3716280"/>
            <a:ext cx="4032360" cy="29527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24" name="Picture 5" descr="medievalcaballero1"/>
          <p:cNvPicPr/>
          <p:nvPr/>
        </p:nvPicPr>
        <p:blipFill>
          <a:blip r:embed="rId2"/>
          <a:stretch/>
        </p:blipFill>
        <p:spPr>
          <a:xfrm>
            <a:off x="6084720" y="3573360"/>
            <a:ext cx="2333880" cy="30481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B587-4636-4E92-9604-7CEB88EB9886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Siglos V al XII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acia el siglo XI el Papa concedió a las más importantes escuelas catedralicias el derecho de conceder una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icentia ubique docendi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que habilitaba para enseñar dondequie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180px-Philo_mediev"/>
          <p:cNvPicPr/>
          <p:nvPr/>
        </p:nvPicPr>
        <p:blipFill>
          <a:blip r:embed="rId1"/>
          <a:stretch/>
        </p:blipFill>
        <p:spPr>
          <a:xfrm>
            <a:off x="2987640" y="2997360"/>
            <a:ext cx="3672000" cy="33858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129" name="Picture 6" descr="vestimenta-de-la-edad-media"/>
          <p:cNvPicPr/>
          <p:nvPr/>
        </p:nvPicPr>
        <p:blipFill>
          <a:blip r:embed="rId2"/>
          <a:stretch/>
        </p:blipFill>
        <p:spPr>
          <a:xfrm>
            <a:off x="3203640" y="2852640"/>
            <a:ext cx="3305160" cy="37450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B85F-30A9-4577-928D-9528177BC9F8}" type="slidenum">
              <a:rPr b="0" lang="es-ES" sz="1400" spc="-1" strike="noStrike">
                <a:solidFill>
                  <a:srgbClr val="ffdd89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dd89"/>
                </a:solidFill>
                <a:latin typeface="Impact"/>
              </a:rPr>
              <a:t>La Educación Caballeresca</a:t>
            </a:r>
            <a:endParaRPr b="0" lang="en-US" sz="3600" spc="-1" strike="noStrike">
              <a:solidFill>
                <a:srgbClr val="ffdd89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424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Aprender el oficio de las armas para escalar so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Ética del honor, fidelidad al señ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Arial"/>
              </a:rPr>
              <a:t>La Iglesia procura transformar la caballería en una institución: “protectores de los inermes frente a la arbitrariedad de los violent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la-sociedad-edad-media"/>
          <p:cNvPicPr/>
          <p:nvPr/>
        </p:nvPicPr>
        <p:blipFill>
          <a:blip r:embed="rId1"/>
          <a:stretch/>
        </p:blipFill>
        <p:spPr>
          <a:xfrm>
            <a:off x="2411280" y="3429000"/>
            <a:ext cx="4551480" cy="32180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21:53:51Z</dcterms:created>
  <dc:creator>Dirección de Sistemas</dc:creator>
  <dc:description/>
  <dc:language>en-US</dc:language>
  <cp:lastModifiedBy>Gerardo Lazaro</cp:lastModifiedBy>
  <dcterms:modified xsi:type="dcterms:W3CDTF">2009-04-23T00:52:30Z</dcterms:modified>
  <cp:revision>34</cp:revision>
  <dc:subject/>
  <dc:title>El Nacimiento de Occidente </dc:title>
</cp:coreProperties>
</file>